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4E91-FF88-4A12-82EE-1004DB35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4CA-1CD7-4C1C-86CD-C2C959CE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0A7D-F613-4B94-805C-E1493085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02EC-381D-42C4-82D1-4C1FF577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F36D-0ED2-409D-B65C-C0E1C0FB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4318-4D36-4C87-99A2-24BD2ECC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F780-B24B-4353-B21C-FE911FF2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6F3-64AD-4AE0-88D2-B197871A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1C5C-FBCC-4F72-B651-4EAD1F11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75D5-966F-4444-9641-C214E6BA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FEF6-6B43-4083-A095-83A8A5BA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58D9-4B77-4F38-9D1B-1C75B0D8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B767-9E63-4A16-85D5-052783636D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3933720" y="179280"/>
            <a:ext cx="2735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№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м администрации города Вятские Поля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  24.02.2025             №   31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341360" y="1979640"/>
            <a:ext cx="475164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3" name="Прямоугольник 9"/>
          <p:cNvSpPr/>
          <p:nvPr/>
        </p:nvSpPr>
        <p:spPr>
          <a:xfrm>
            <a:off x="4941720" y="3132000"/>
            <a:ext cx="142920" cy="1368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1"/>
          <p:cNvSpPr/>
          <p:nvPr/>
        </p:nvSpPr>
        <p:spPr>
          <a:xfrm>
            <a:off x="3141720" y="2987640"/>
            <a:ext cx="142920" cy="1079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2"/>
          <p:cNvSpPr/>
          <p:nvPr/>
        </p:nvSpPr>
        <p:spPr>
          <a:xfrm>
            <a:off x="1341360" y="7812000"/>
            <a:ext cx="719280" cy="14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6"/>
          <p:cNvSpPr/>
          <p:nvPr/>
        </p:nvSpPr>
        <p:spPr>
          <a:xfrm>
            <a:off x="3573360" y="2843280"/>
            <a:ext cx="1295640" cy="1443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Двойная стрелка влево/вправо 17"/>
          <p:cNvSpPr/>
          <p:nvPr/>
        </p:nvSpPr>
        <p:spPr>
          <a:xfrm rot="457800">
            <a:off x="2417760" y="7057800"/>
            <a:ext cx="2746440" cy="147600"/>
          </a:xfrm>
          <a:prstGeom prst="leftRightArrow">
            <a:avLst>
              <a:gd name="adj1" fmla="val 50000"/>
              <a:gd name="adj2" fmla="val 500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Двойная стрелка влево/вправо 19"/>
          <p:cNvSpPr/>
          <p:nvPr/>
        </p:nvSpPr>
        <p:spPr>
          <a:xfrm>
            <a:off x="1341360" y="8172360"/>
            <a:ext cx="719280" cy="147600"/>
          </a:xfrm>
          <a:prstGeom prst="leftRightArrow">
            <a:avLst>
              <a:gd name="adj1" fmla="val 50000"/>
              <a:gd name="adj2" fmla="val 5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Рамка 21"/>
          <p:cNvSpPr/>
          <p:nvPr/>
        </p:nvSpPr>
        <p:spPr>
          <a:xfrm>
            <a:off x="5229360" y="2700360"/>
            <a:ext cx="144360" cy="142920"/>
          </a:xfrm>
          <a:custGeom>
            <a:avLst/>
            <a:gdLst>
              <a:gd name="textAreaLeft" fmla="*/ 17640 w 144360"/>
              <a:gd name="textAreaRight" fmla="*/ 126720 w 144360"/>
              <a:gd name="textAreaTop" fmla="*/ 17640 h 142920"/>
              <a:gd name="textAreaBottom" fmla="*/ 12528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0"/>
                </a:moveTo>
                <a:lnTo>
                  <a:pt x="144463" y="0"/>
                </a:lnTo>
                <a:lnTo>
                  <a:pt x="144463" y="142875"/>
                </a:lnTo>
                <a:lnTo>
                  <a:pt x="0" y="142875"/>
                </a:lnTo>
                <a:close/>
                <a:moveTo>
                  <a:pt x="17859" y="17859"/>
                </a:moveTo>
                <a:lnTo>
                  <a:pt x="17859" y="125016"/>
                </a:lnTo>
                <a:lnTo>
                  <a:pt x="126604" y="125016"/>
                </a:lnTo>
                <a:lnTo>
                  <a:pt x="126604" y="17859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Рамка 22"/>
          <p:cNvSpPr/>
          <p:nvPr/>
        </p:nvSpPr>
        <p:spPr>
          <a:xfrm>
            <a:off x="3141720" y="2700360"/>
            <a:ext cx="142920" cy="142920"/>
          </a:xfrm>
          <a:custGeom>
            <a:avLst/>
            <a:gdLst>
              <a:gd name="textAreaLeft" fmla="*/ 17640 w 142920"/>
              <a:gd name="textAreaRight" fmla="*/ 125280 w 142920"/>
              <a:gd name="textAreaTop" fmla="*/ 17640 h 142920"/>
              <a:gd name="textAreaBottom" fmla="*/ 125280 h 142920"/>
            </a:gdLst>
            <a:ahLst/>
            <a:rect l="textAreaLeft" t="textAreaTop" r="textAreaRight" b="textAreaBottom"/>
            <a:pathLst>
              <a:path w="142875" h="142875">
                <a:moveTo>
                  <a:pt x="0" y="0"/>
                </a:moveTo>
                <a:lnTo>
                  <a:pt x="142875" y="0"/>
                </a:lnTo>
                <a:lnTo>
                  <a:pt x="142875" y="142875"/>
                </a:lnTo>
                <a:lnTo>
                  <a:pt x="0" y="142875"/>
                </a:lnTo>
                <a:close/>
                <a:moveTo>
                  <a:pt x="17859" y="17859"/>
                </a:moveTo>
                <a:lnTo>
                  <a:pt x="17859" y="125016"/>
                </a:lnTo>
                <a:lnTo>
                  <a:pt x="125016" y="125016"/>
                </a:lnTo>
                <a:lnTo>
                  <a:pt x="125016" y="17859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Рамка 24"/>
          <p:cNvSpPr/>
          <p:nvPr/>
        </p:nvSpPr>
        <p:spPr>
          <a:xfrm>
            <a:off x="2997360" y="4140360"/>
            <a:ext cx="144360" cy="144360"/>
          </a:xfrm>
          <a:custGeom>
            <a:avLst/>
            <a:gdLst>
              <a:gd name="textAreaLeft" fmla="*/ 18000 w 144360"/>
              <a:gd name="textAreaRight" fmla="*/ 126360 w 144360"/>
              <a:gd name="textAreaTop" fmla="*/ 18000 h 144360"/>
              <a:gd name="textAreaBottom" fmla="*/ 126360 h 144360"/>
            </a:gdLst>
            <a:ahLst/>
            <a:rect l="textAreaLeft" t="textAreaTop" r="textAreaRight" b="textAreaBottom"/>
            <a:pathLst>
              <a:path w="144463" h="144463">
                <a:moveTo>
                  <a:pt x="0" y="0"/>
                </a:moveTo>
                <a:lnTo>
                  <a:pt x="144463" y="0"/>
                </a:lnTo>
                <a:lnTo>
                  <a:pt x="144463" y="144463"/>
                </a:lnTo>
                <a:lnTo>
                  <a:pt x="0" y="144463"/>
                </a:lnTo>
                <a:close/>
                <a:moveTo>
                  <a:pt x="18058" y="18058"/>
                </a:moveTo>
                <a:lnTo>
                  <a:pt x="18058" y="126405"/>
                </a:lnTo>
                <a:lnTo>
                  <a:pt x="126405" y="126405"/>
                </a:lnTo>
                <a:lnTo>
                  <a:pt x="126405" y="18058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Рамка 25"/>
          <p:cNvSpPr/>
          <p:nvPr/>
        </p:nvSpPr>
        <p:spPr>
          <a:xfrm>
            <a:off x="1413000" y="8459640"/>
            <a:ext cx="144360" cy="144720"/>
          </a:xfrm>
          <a:custGeom>
            <a:avLst/>
            <a:gdLst>
              <a:gd name="textAreaLeft" fmla="*/ 18000 w 144360"/>
              <a:gd name="textAreaRight" fmla="*/ 126360 w 144360"/>
              <a:gd name="textAreaTop" fmla="*/ 18000 h 144720"/>
              <a:gd name="textAreaBottom" fmla="*/ 126720 h 144720"/>
            </a:gdLst>
            <a:ahLst/>
            <a:rect l="textAreaLeft" t="textAreaTop" r="textAreaRight" b="textAreaBottom"/>
            <a:pathLst>
              <a:path w="144463" h="144462">
                <a:moveTo>
                  <a:pt x="0" y="0"/>
                </a:moveTo>
                <a:lnTo>
                  <a:pt x="144463" y="0"/>
                </a:lnTo>
                <a:lnTo>
                  <a:pt x="144463" y="144462"/>
                </a:lnTo>
                <a:lnTo>
                  <a:pt x="0" y="144462"/>
                </a:lnTo>
                <a:close/>
                <a:moveTo>
                  <a:pt x="18058" y="18058"/>
                </a:moveTo>
                <a:lnTo>
                  <a:pt x="18058" y="126404"/>
                </a:lnTo>
                <a:lnTo>
                  <a:pt x="126405" y="126404"/>
                </a:lnTo>
                <a:lnTo>
                  <a:pt x="126405" y="18058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8"/>
          <p:cNvSpPr/>
          <p:nvPr/>
        </p:nvSpPr>
        <p:spPr>
          <a:xfrm>
            <a:off x="2209320" y="7740720"/>
            <a:ext cx="33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орговые места для участников ярмар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9"/>
          <p:cNvSpPr/>
          <p:nvPr/>
        </p:nvSpPr>
        <p:spPr>
          <a:xfrm>
            <a:off x="2216880" y="810108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ста для автостоянки транспортных средст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0"/>
          <p:cNvSpPr/>
          <p:nvPr/>
        </p:nvSpPr>
        <p:spPr>
          <a:xfrm>
            <a:off x="2212560" y="8388360"/>
            <a:ext cx="289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ста для контейнеров под мусо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0"/>
          <p:cNvSpPr/>
          <p:nvPr/>
        </p:nvSpPr>
        <p:spPr>
          <a:xfrm>
            <a:off x="2852640" y="8964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9T11:34:52Z</dcterms:created>
  <dc:creator>User2102</dc:creator>
  <dc:description/>
  <dc:language>en-US</dc:language>
  <cp:lastModifiedBy>User</cp:lastModifiedBy>
  <dcterms:modified xsi:type="dcterms:W3CDTF">2025-02-24T13:18:57Z</dcterms:modified>
  <cp:revision>19</cp:revision>
  <dc:subject/>
  <dc:title>Слайд 1</dc:title>
</cp:coreProperties>
</file>